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78C-1D55-4D92-A57E-D52AC908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CA54-82B9-4109-AD8F-9C02FE0C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B86-7B5D-467B-B686-D1F9D84D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6F6-7888-4D27-BEC5-2A09D534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5D0B-D1E5-4436-829E-84440159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1F04-3382-4053-80AD-8C971FFC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2DF7-CCB9-4931-BA0A-AA88B3FF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3E2E-67A3-4B1B-9CD4-0E7BDC1D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EF5E-8677-4D41-B546-53967410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3D27-636F-45EA-8C5C-357A32D0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50A3-CC89-407D-89CA-008B5F7E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7650-0A40-448F-93B9-BECA2904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BEE8-2075-4B63-ABDB-6454048B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FF29-948A-49A9-B34C-739D8668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DADC-B3C4-448E-A727-09543675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EDD4-B0B4-41AE-A4DB-290F977B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C19D-5CBB-47F8-A0CB-05A18276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5FF-B11B-45AB-9633-8E7515F8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3696-E954-49F2-BB94-3A5E735A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C5C-A3CA-40BE-A646-BE4D4CC2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EE7-5FCE-47B8-B308-F4C44D41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537-5731-4A04-9535-9C42A1A3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16E-13DC-4BA5-995E-7FA8E86F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EC4-A40B-4643-BB9F-351EF005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3465-BDB6-48ED-B8D7-E56E60311E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44BC-1C8C-47F4-BD10-7BAC92CB94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vestnik-cvetovoda.ru/photo/index.php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Азот, аммиак 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и соли аммония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23248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При горении аммиака образуются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44197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и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)  HN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)  N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1532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Продуктом взаимодействия аммиака с водой является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5943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гидрид азо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нитрат вод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оксид азота и водор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гидроксид аммо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4" dur="1" fill="hold"/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44440"/>
            <a:ext cx="815328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При каталитическом окислении аммиака образуются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886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и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2" dur="1" fill="hold"/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8000" y="380880"/>
            <a:ext cx="7851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При взаимодействии аммиака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с кислотами образуются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соли азотной кисло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соли аммо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соли азотистой кисло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аммиачная в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8" dur="1" fill="hold"/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244440"/>
            <a:ext cx="82328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Степень окисления азота в ионе NН</a:t>
            </a:r>
            <a:r>
              <a:rPr b="1" lang="en-US" sz="3600" spc="-1" strike="noStrike" baseline="-25000">
                <a:solidFill>
                  <a:srgbClr val="ffffb7"/>
                </a:solidFill>
                <a:latin typeface="Arial"/>
              </a:rPr>
              <a:t>4</a:t>
            </a:r>
            <a:r>
              <a:rPr b="1" lang="ru-RU" sz="3600" spc="-1" strike="noStrike" baseline="30000">
                <a:solidFill>
                  <a:srgbClr val="ffffb7"/>
                </a:solidFill>
                <a:latin typeface="Arial"/>
              </a:rPr>
              <a:t>+</a:t>
            </a: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 равна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133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  – 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– 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  + 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  + 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6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4" dur="1" fill="hold"/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Хлорид аммония взаимодействует с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хлоридом натр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гидроксидом бар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нитратом кал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соляной кислот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4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0" dur="1" fill="hold"/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92160"/>
            <a:ext cx="8534520" cy="18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Качественной реакцией на катион аммония является взаимодействие солей аммония с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5486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раствором щелоч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раствором кисло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вод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нитратом сереб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6" dur="1" fill="hold"/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Карбонат аммония </a:t>
            </a: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не</a:t>
            </a: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 взаимодействует с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5486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хлоридом бар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гидроксидом натр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нитратом натр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соляной кислот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6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44440"/>
            <a:ext cx="8308800" cy="18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Ионную кристаллическую решетку </a:t>
            </a: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не</a:t>
            </a: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 имеет соединение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 NH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 NH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 NaC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 CaF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8" dur="1" fill="hold"/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18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Реакцией ионного обмена, идущей в водном растворе до конца, является взаимодействие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7560" y="1905120"/>
            <a:ext cx="8007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 сульфата аммония и хлорида натр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 хлорида аммония и гидроксида кал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 сульфата аммония и соляной кисло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 нитрата аммония и сульфата натр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4000"/>
                            </p:stCondLst>
                            <p:childTnLst>
                              <p:par>
                                <p:cTn id="637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3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4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4" dur="1" fill="hold"/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44080"/>
            <a:ext cx="83088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Низкая реакционная способность молекулы азота объясняется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7560" y="1904760"/>
            <a:ext cx="8083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большим размером атома азо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наличием тройной связи между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атомами азо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типом кристаллической решет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физическими свойствами азо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Фото: SarkangalvIte">
            <a:hlinkClick r:id="rId1"/>
          </p:cNvPr>
          <p:cNvPicPr/>
          <p:nvPr/>
        </p:nvPicPr>
        <p:blipFill>
          <a:blip r:embed="rId2"/>
          <a:srcRect l="0" t="0" r="9449" b="0"/>
          <a:stretch/>
        </p:blipFill>
        <p:spPr>
          <a:xfrm>
            <a:off x="4484520" y="0"/>
            <a:ext cx="465948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37335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пасибо за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нимание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Наиболее прочная химическая связь в молекуле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057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  F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  Cl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  O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N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Взаимодействие между азотом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и кислородом возможно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при температуре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5181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кипения азо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кипения кисл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100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3000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" dur="1" fill="hold"/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125280"/>
            <a:ext cx="8381880" cy="17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Продуктом реакции азота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и кислорода при высокой температуре является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371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)  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)  N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)  N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)  N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mph" presetID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4" dur="1" fill="hold"/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При комнатной температуре азот взаимодействует с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4114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водородо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кислородо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литие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кальцие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0" dur="1" fill="hold"/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44080"/>
            <a:ext cx="83851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Продуктом взаимодействия магния с азотом является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4343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нитрат маг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нитрит маг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нитрид маг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оксид маг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385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Продуктом взаимодействия азота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и водорода является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нитрит вод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нитрат вод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аммиа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гидроксид аммо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6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Верны ли следующие суждения?</a:t>
            </a:r>
            <a:br>
              <a:rPr sz="3600"/>
            </a:b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А. Аммиак имеет молекулярную       </a:t>
            </a: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кристаллическую решетку.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Б. Аммиак можно собирать путем </a:t>
            </a: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вытеснения воды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3504960"/>
            <a:ext cx="5486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 верно только 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верно только 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 верны оба сужд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оба суждения неверн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химии</cp:lastModifiedBy>
  <dcterms:modified xsi:type="dcterms:W3CDTF">2015-04-10T04:27:4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